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8B9-8940-4CD7-9FDF-57C6AD0B8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F4FB-7E67-4AEF-9757-22877AE57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martArt custom animation effects: upward arrow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i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produce the SmartArt effects on this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lid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lan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ert t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llustr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oose a SmartArt Graph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ialog box, in the left pane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ne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pward Arro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xth row, third option from the left)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nsert the graphic into the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graphic, and then click one of the arrows on the left border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ype your text he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enter text.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eate a bulleted list below each heading, select the heading text box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ype your text her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e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l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Enter text into the new bullet text box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lide, select the graphic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f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ful  Range - Accent Colors 3 to 4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rd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atch for Docu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tens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lib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and then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4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nt Siz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text in the first text box from the left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ord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the arrow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li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een, Accent 3, Darker 25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row, seven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text in the second text box from the left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ord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the arrow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qua, Accent 5, Darker 25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row, nin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text in the third text box from the left. Und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mart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ordA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y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the arrow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rple, Accent 4, Darker 25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fth row, eigh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produce the animation effects on this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oup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lide, select the graphic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sk pan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d Eff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Add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rom Le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wipe effect. Click the arrow to the right of the wipe effect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ect Op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ialog box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Art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oup graphic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e by 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click the double arrow under the wipe effect to expand the contents of the list of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second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ci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th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e, select the third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th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e arrow to the right of the third wipe effect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im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ialog box, o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im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ab,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, ent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four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ci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 Cli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e, select the fif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fter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six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ci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 Cli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Curve U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stom Anim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 pane, select the seventh wipe effect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Effe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nge Entrance E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fter Previ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ify: Desc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ry F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produce the background effects on this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the slide background area, and then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 Backgrou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mat Backgrou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og box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 left pane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ient 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ne,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ear R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row, four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ient stop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ntil two stops appear in the drop-down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ient stop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stomize the gradient stops that you add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, and then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posi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, ent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9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e button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ite, Background 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row, first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, and then do the follow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op posi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, ent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e button nex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then und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me Colo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live Green, Accent 3, Lighter 60%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rd row, seventh option from the lef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increase the size of the SmartArt graphic so that it spans the entire slide, d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lide, select the graph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to the top right corner of the graphic border, until a two-headed arrow appears. Drag the top right corner of the graphic border into the top right corner of the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to the bottom left corner of the graphic border, until a two-headed arrow appears. Drag the bottom left corner of the graphic border into the bottom left corner of the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ldImg"/>
          </p:nvPr>
        </p:nvSpPr>
        <p:spPr>
          <a:xfrm>
            <a:off x="533520" y="460440"/>
            <a:ext cx="3144600" cy="2359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21A0-FB26-45A2-840C-B9EF8B6BB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596C-D094-45D1-900D-DB3B00778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15E1-B42E-4155-B134-E2DD8F868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EACE-AFBE-488B-BE66-DCFCB7BBF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854-9328-4834-810F-5BEA27E1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9D8-2D08-40EF-BEC5-29C3018B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355-29CE-4915-9641-70723816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A6B-3029-414D-BC8E-28534735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F78F-E0E3-4B35-AEFB-06A9FA1E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BCCF-E9CD-4AE1-9A45-970EB870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5CB2-3F28-42BC-ACB4-866C803B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551-2F57-4B17-9DAD-82A6F083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7D0E-0595-4969-A1D2-B4A072E4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C5E9-0AE8-4B66-AE0A-FE41B049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FCC0-A0BA-436E-A536-9BC2B59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2A4-25B8-415B-A407-0C65B98B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8DC3-F45F-47DA-BDB1-6F0080E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64BA-4C81-40C5-A2F6-7BA8CED8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2983-2C0B-4E0C-B72C-88453A8C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29D6-1514-4502-9F88-FC02BF2D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AE5-4118-4CB1-B984-3AFF5722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CF8F-07FE-452B-BB58-2F565592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4E7A-B098-45EC-9599-F7C4F3D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FD16-E3F6-4740-B728-CE67B76A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363A-B7C6-4554-988C-8A310394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5AFA-64EB-430B-9151-8A207E7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E7D-7DB9-4B89-8C17-5137F85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0EDE-58AD-47EB-A2D0-A89BCFB8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3D34-2D28-4AE3-9758-5D1D1A4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1D51-DC79-476F-81E4-79E488D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9A37-DCFA-41DA-8F5D-AB237A5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A2B5-6BF8-45A4-846F-9E7A6642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AE68-8DA1-41A3-90B7-FCCD674E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4DDB-3859-4B9F-A7BA-B3AA5E8D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E4A2-4620-485B-880A-C51C0500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00FE-9789-4D1A-8E63-DD4D671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4470-FFBC-4267-9E65-6764737E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32E-037D-4D3C-95CE-143CD330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0316-E148-44C9-82A9-6864784B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4AB9-B108-4CB3-89FF-7965DBDD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861D-F189-4E16-89AD-0C96924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18DE-6E1F-416F-B730-E2A3F87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D21A-0FBF-4736-AB4A-63480B3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7D337-7992-4517-BF91-B4A0D81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26DD-2166-4F0B-970B-5662894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FBDB-02F2-4359-86BA-C774BF99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FE0F-0644-4774-A4B4-006D9C8C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8A3-CED6-406F-BD5D-144B5CB6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99D-F5D5-4DDB-BE1D-3EE16591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E54-9935-4B7B-9BE9-9183AC9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7F5-255D-4E4D-92DE-7D6A0A6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D21-59D2-4C59-8462-78F9055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C6DA-C53D-4F51-83A0-E3B8529D06C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75A-78C4-4440-BA7E-E66FF5F5C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7237080"/>
            <a:ext cx="13492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1C3B-7641-493A-AB81-DFE79E0BE66F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503000" y="7237080"/>
            <a:ext cx="77230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egory Leptoukh, NA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9325080" y="7224840"/>
            <a:ext cx="814320" cy="382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706-DDD5-49E4-9BE3-BAC0C934083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46080" y="33480"/>
            <a:ext cx="79992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2120" y="7178760"/>
            <a:ext cx="21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2BE7-22C0-4BF1-BFF5-F9815BF948F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70040" y="7178760"/>
            <a:ext cx="321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79920" y="7178760"/>
            <a:ext cx="21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C3E2-FDE7-4F06-A866-80F323F47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fullblack"/>
          <p:cNvPicPr/>
          <p:nvPr/>
        </p:nvPicPr>
        <p:blipFill>
          <a:blip r:embed="rId2"/>
          <a:srcRect l="15465" t="17982" r="22436" b="13603"/>
          <a:stretch/>
        </p:blipFill>
        <p:spPr>
          <a:xfrm>
            <a:off x="46080" y="33480"/>
            <a:ext cx="799920" cy="798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0" y="7237080"/>
            <a:ext cx="13492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B220-5860-4C76-A0A1-3B009BAB0926}" type="datetime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1503000" y="7237080"/>
            <a:ext cx="7723080" cy="38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9325080" y="7224840"/>
            <a:ext cx="814320" cy="382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1113-D4E4-403D-9E55-06DF03BC87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55640" y="2361960"/>
            <a:ext cx="7081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Giovanni for AQ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22360" y="3962520"/>
            <a:ext cx="71978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regory Leptouk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ASA Goddard Space Flight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Goddard Earth Sciences </a:t>
            </a:r>
            <a:br>
              <a:rPr sz="2400"/>
            </a:b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Data and Information Services Center (GES DI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2487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ata Harmonization, Data Provenance and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ience quality of Giovanni result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82E-A053-4E86-B58A-DE3C2379EEC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711B-9EA7-4D81-BD10-939017E53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040" y="14400"/>
            <a:ext cx="86360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ata harmonization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23720" y="932040"/>
            <a:ext cx="939816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Data from multiple sensors need to be harmonized before comparison or f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Harmonization is needed f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Gr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Qu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buClr>
                <a:srgbClr val="fff29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Prove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5000" indent="-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Trebuchet MS"/>
                <a:ea typeface="ヒラギノ角ゴ Pro W3"/>
              </a:rPr>
              <a:t>To ensure “apples-to-apples”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663"/>
              </a:spcBef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7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C954-D29D-4707-BB4F-89C0963E929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n Francisco, C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3A159610-4657-4616-A51B-AB4253F83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9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0" descr="acp_sep28_demo_g3_wms_latlonplot.PNG"/>
          <p:cNvPicPr/>
          <p:nvPr/>
        </p:nvPicPr>
        <p:blipFill>
          <a:blip r:embed="rId1"/>
          <a:srcRect l="5279" t="27139" r="6251" b="30700"/>
          <a:stretch/>
        </p:blipFill>
        <p:spPr>
          <a:xfrm>
            <a:off x="577800" y="2075040"/>
            <a:ext cx="8989920" cy="31748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2"/>
          <p:cNvSpPr/>
          <p:nvPr/>
        </p:nvSpPr>
        <p:spPr>
          <a:xfrm>
            <a:off x="932040" y="5602320"/>
            <a:ext cx="7816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s of Ozone from OMI (NASA Goddard) and GOME2 (DLR, Germany) harmonized by Giov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1898640" y="3486240"/>
            <a:ext cx="10731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O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6372360" y="3471840"/>
            <a:ext cx="16794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Arial"/>
                <a:ea typeface="Arial"/>
              </a:rPr>
              <a:t>GOME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7640" y="79200"/>
            <a:ext cx="68724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Interoperability with other data centers in USA and Europe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agram 2" descr=""/>
          <p:cNvPicPr/>
          <p:nvPr/>
        </p:nvPicPr>
        <p:blipFill>
          <a:blip r:embed="rId1"/>
          <a:stretch/>
        </p:blipFill>
        <p:spPr>
          <a:xfrm>
            <a:off x="-19080" y="304920"/>
            <a:ext cx="10193400" cy="71690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9000" y="228240"/>
            <a:ext cx="863604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volving Giovanni infrastructure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480" y="-360"/>
            <a:ext cx="8636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gile Giovanni for Year of Tropical Convection (YOTC)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1AE-2DFE-43CD-BDD9-EBB95ED5B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70"/>
          <p:cNvGrpSpPr/>
          <p:nvPr/>
        </p:nvGrpSpPr>
        <p:grpSpPr>
          <a:xfrm>
            <a:off x="1955880" y="1295280"/>
            <a:ext cx="6324480" cy="4753080"/>
            <a:chOff x="1955880" y="1295280"/>
            <a:chExt cx="6324480" cy="4753080"/>
          </a:xfrm>
        </p:grpSpPr>
        <p:pic>
          <p:nvPicPr>
            <p:cNvPr id="273" name="Picture 6" descr=""/>
            <p:cNvPicPr/>
            <p:nvPr/>
          </p:nvPicPr>
          <p:blipFill>
            <a:blip r:embed="rId1"/>
            <a:srcRect l="717" t="14481" r="1014" b="14892"/>
            <a:stretch/>
          </p:blipFill>
          <p:spPr>
            <a:xfrm>
              <a:off x="1955880" y="1295280"/>
              <a:ext cx="6324480" cy="47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24" descr="file_0.jpg"/>
            <p:cNvPicPr/>
            <p:nvPr/>
          </p:nvPicPr>
          <p:blipFill>
            <a:blip r:embed="rId2"/>
            <a:srcRect l="0" t="17241" r="0" b="3450"/>
            <a:stretch/>
          </p:blipFill>
          <p:spPr>
            <a:xfrm>
              <a:off x="5111280" y="2154240"/>
              <a:ext cx="2668320" cy="30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Box 25"/>
          <p:cNvSpPr/>
          <p:nvPr/>
        </p:nvSpPr>
        <p:spPr>
          <a:xfrm>
            <a:off x="279360" y="614988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IRS and TRMM Level 2 profile data are extracted from a single point location after a location is selected from a spatial map produced from the relevant Level 3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26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86AA-085E-4348-A8BE-D20A2B3FB9A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27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1480" y="228240"/>
            <a:ext cx="86104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eer-reviewed publications acknowledging Giovanni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279" name="Content Placeholder 3" descr=""/>
          <p:cNvPicPr/>
          <p:nvPr/>
        </p:nvPicPr>
        <p:blipFill>
          <a:blip r:embed="rId1"/>
          <a:stretch/>
        </p:blipFill>
        <p:spPr>
          <a:xfrm>
            <a:off x="414360" y="1517760"/>
            <a:ext cx="9412200" cy="5718240"/>
          </a:xfrm>
          <a:prstGeom prst="rect">
            <a:avLst/>
          </a:prstGeom>
          <a:ln w="0">
            <a:noFill/>
          </a:ln>
        </p:spPr>
      </p:pic>
      <p:sp>
        <p:nvSpPr>
          <p:cNvPr id="280" name="Date Placeholder 4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A130-3088-4C10-8282-4B28B988E65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A5F8-0639-46BD-BCCE-709B189A6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6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708360" y="1273320"/>
            <a:ext cx="60958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66"/>
                </a:solidFill>
                <a:latin typeface="Arial"/>
              </a:rPr>
              <a:t>Comprehensive Data System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provide an environment for working with </a:t>
            </a:r>
            <a:r>
              <a:rPr b="0" i="1" lang="en-US" sz="2200" spc="-1" strike="noStrike">
                <a:solidFill>
                  <a:srgbClr val="ffff66"/>
                </a:solidFill>
                <a:latin typeface="Arial"/>
              </a:rPr>
              <a:t>all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sources of relevant data (satellite, ground-based and models) across the full range of temporal and spatial s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838080" y="1766880"/>
            <a:ext cx="1546200" cy="1101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133720" y="2160720"/>
            <a:ext cx="790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POL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31880" y="2227320"/>
            <a:ext cx="747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Ter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481040" y="2073240"/>
            <a:ext cx="14097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q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11080" y="2368440"/>
            <a:ext cx="1408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731880" y="2662200"/>
            <a:ext cx="7891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CloudS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967040" y="1962000"/>
            <a:ext cx="7887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CALIP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2279520" y="2422440"/>
            <a:ext cx="693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SO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1589040" y="2619360"/>
            <a:ext cx="5508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TR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4" descr=""/>
          <p:cNvPicPr/>
          <p:nvPr/>
        </p:nvPicPr>
        <p:blipFill>
          <a:blip r:embed="rId2"/>
          <a:stretch/>
        </p:blipFill>
        <p:spPr>
          <a:xfrm>
            <a:off x="1368360" y="3301920"/>
            <a:ext cx="434880" cy="7416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1290600" y="3357720"/>
            <a:ext cx="704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UA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6" descr=""/>
          <p:cNvPicPr/>
          <p:nvPr/>
        </p:nvPicPr>
        <p:blipFill>
          <a:blip r:embed="rId3"/>
          <a:stretch/>
        </p:blipFill>
        <p:spPr>
          <a:xfrm>
            <a:off x="2087640" y="3290760"/>
            <a:ext cx="434880" cy="351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7"/>
          <p:cNvSpPr/>
          <p:nvPr/>
        </p:nvSpPr>
        <p:spPr>
          <a:xfrm>
            <a:off x="1963800" y="3616200"/>
            <a:ext cx="7538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Nimbus-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8" descr=""/>
          <p:cNvPicPr/>
          <p:nvPr/>
        </p:nvPicPr>
        <p:blipFill>
          <a:blip r:embed="rId4"/>
          <a:stretch/>
        </p:blipFill>
        <p:spPr>
          <a:xfrm>
            <a:off x="828720" y="3333600"/>
            <a:ext cx="307800" cy="212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9"/>
          <p:cNvSpPr/>
          <p:nvPr/>
        </p:nvSpPr>
        <p:spPr>
          <a:xfrm>
            <a:off x="693720" y="3527280"/>
            <a:ext cx="6364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Earth Pro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720720" y="1219320"/>
            <a:ext cx="301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Current Satel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ASA, NOAA, ESA, JAX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843120" y="2941560"/>
            <a:ext cx="1896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Legacy Satel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843120" y="5208480"/>
            <a:ext cx="2031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Compute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3" descr=""/>
          <p:cNvPicPr/>
          <p:nvPr/>
        </p:nvPicPr>
        <p:blipFill>
          <a:blip r:embed="rId5"/>
          <a:stretch/>
        </p:blipFill>
        <p:spPr>
          <a:xfrm>
            <a:off x="1368360" y="5661000"/>
            <a:ext cx="784440" cy="7952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4"/>
          <p:cNvSpPr/>
          <p:nvPr/>
        </p:nvSpPr>
        <p:spPr>
          <a:xfrm>
            <a:off x="987480" y="5564160"/>
            <a:ext cx="4744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GC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843120" y="6311880"/>
            <a:ext cx="696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Regional Mode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1955880" y="5478480"/>
            <a:ext cx="79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Earth System Mode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1847880" y="6327720"/>
            <a:ext cx="7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Process Mode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988920" y="3841920"/>
            <a:ext cx="2144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ffec"/>
                </a:solidFill>
                <a:latin typeface="Arial"/>
              </a:rPr>
              <a:t>Ground-Based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9" descr=""/>
          <p:cNvPicPr/>
          <p:nvPr/>
        </p:nvPicPr>
        <p:blipFill>
          <a:blip r:embed="rId6"/>
          <a:stretch/>
        </p:blipFill>
        <p:spPr>
          <a:xfrm>
            <a:off x="901800" y="4041720"/>
            <a:ext cx="330120" cy="330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0"/>
          <p:cNvSpPr/>
          <p:nvPr/>
        </p:nvSpPr>
        <p:spPr>
          <a:xfrm>
            <a:off x="660240" y="4354560"/>
            <a:ext cx="8193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Son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1" descr=""/>
          <p:cNvPicPr/>
          <p:nvPr/>
        </p:nvPicPr>
        <p:blipFill>
          <a:blip r:embed="rId7"/>
          <a:stretch/>
        </p:blipFill>
        <p:spPr>
          <a:xfrm>
            <a:off x="1409760" y="4454640"/>
            <a:ext cx="414360" cy="1825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2"/>
          <p:cNvSpPr/>
          <p:nvPr/>
        </p:nvSpPr>
        <p:spPr>
          <a:xfrm>
            <a:off x="1878120" y="4487760"/>
            <a:ext cx="6062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ircra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3" descr=""/>
          <p:cNvPicPr/>
          <p:nvPr/>
        </p:nvPicPr>
        <p:blipFill>
          <a:blip r:embed="rId8"/>
          <a:stretch/>
        </p:blipFill>
        <p:spPr>
          <a:xfrm>
            <a:off x="1992240" y="4687920"/>
            <a:ext cx="339840" cy="330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4"/>
          <p:cNvSpPr/>
          <p:nvPr/>
        </p:nvSpPr>
        <p:spPr>
          <a:xfrm>
            <a:off x="1682640" y="4970520"/>
            <a:ext cx="881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Lidar, Rad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714240" y="4670280"/>
            <a:ext cx="1293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AERONET, Dobson, Brewer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6" descr=""/>
          <p:cNvPicPr/>
          <p:nvPr/>
        </p:nvPicPr>
        <p:blipFill>
          <a:blip r:embed="rId9"/>
          <a:stretch/>
        </p:blipFill>
        <p:spPr>
          <a:xfrm>
            <a:off x="6532560" y="4413240"/>
            <a:ext cx="276120" cy="317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7"/>
          <p:cNvSpPr/>
          <p:nvPr/>
        </p:nvSpPr>
        <p:spPr>
          <a:xfrm>
            <a:off x="4048200" y="3416400"/>
            <a:ext cx="17938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Air Quality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3871800" y="4246560"/>
            <a:ext cx="1790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Global Warming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6613560" y="3927600"/>
            <a:ext cx="10540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Ozone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5851440" y="3244680"/>
            <a:ext cx="15145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Precipitation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4179960" y="5700600"/>
            <a:ext cx="15145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Cloud Cover Giovan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2"/>
          <p:cNvSpPr/>
          <p:nvPr/>
        </p:nvSpPr>
        <p:spPr>
          <a:xfrm>
            <a:off x="4654440" y="6415200"/>
            <a:ext cx="1814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My Giovann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3"/>
          <p:cNvSpPr/>
          <p:nvPr/>
        </p:nvSpPr>
        <p:spPr>
          <a:xfrm>
            <a:off x="5749920" y="5848200"/>
            <a:ext cx="15145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Giovanni for 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4" descr=""/>
          <p:cNvPicPr/>
          <p:nvPr/>
        </p:nvPicPr>
        <p:blipFill>
          <a:blip r:embed="rId10"/>
          <a:stretch/>
        </p:blipFill>
        <p:spPr>
          <a:xfrm>
            <a:off x="6278400" y="3724200"/>
            <a:ext cx="212760" cy="965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5" descr=""/>
          <p:cNvPicPr/>
          <p:nvPr/>
        </p:nvPicPr>
        <p:blipFill>
          <a:blip r:embed="rId11"/>
          <a:stretch/>
        </p:blipFill>
        <p:spPr>
          <a:xfrm>
            <a:off x="5484960" y="3672000"/>
            <a:ext cx="699840" cy="985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6" descr=""/>
          <p:cNvPicPr/>
          <p:nvPr/>
        </p:nvPicPr>
        <p:blipFill>
          <a:blip r:embed="rId12"/>
          <a:stretch/>
        </p:blipFill>
        <p:spPr>
          <a:xfrm>
            <a:off x="5389560" y="4518000"/>
            <a:ext cx="625320" cy="244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7" descr=""/>
          <p:cNvPicPr/>
          <p:nvPr/>
        </p:nvPicPr>
        <p:blipFill>
          <a:blip r:embed="rId13"/>
          <a:stretch/>
        </p:blipFill>
        <p:spPr>
          <a:xfrm>
            <a:off x="5495760" y="5492880"/>
            <a:ext cx="466920" cy="84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8" descr=""/>
          <p:cNvPicPr/>
          <p:nvPr/>
        </p:nvPicPr>
        <p:blipFill>
          <a:blip r:embed="rId14"/>
          <a:stretch/>
        </p:blipFill>
        <p:spPr>
          <a:xfrm>
            <a:off x="6108840" y="5481720"/>
            <a:ext cx="361800" cy="35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9" descr=""/>
          <p:cNvPicPr/>
          <p:nvPr/>
        </p:nvPicPr>
        <p:blipFill>
          <a:blip r:embed="rId15"/>
          <a:stretch/>
        </p:blipFill>
        <p:spPr>
          <a:xfrm>
            <a:off x="4976640" y="5481720"/>
            <a:ext cx="700200" cy="23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0" descr=""/>
          <p:cNvPicPr/>
          <p:nvPr/>
        </p:nvPicPr>
        <p:blipFill>
          <a:blip r:embed="rId16"/>
          <a:stretch/>
        </p:blipFill>
        <p:spPr>
          <a:xfrm>
            <a:off x="5568840" y="4835520"/>
            <a:ext cx="197028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1"/>
          <p:cNvSpPr/>
          <p:nvPr/>
        </p:nvSpPr>
        <p:spPr>
          <a:xfrm>
            <a:off x="5657760" y="4923000"/>
            <a:ext cx="1792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2" descr=""/>
          <p:cNvPicPr/>
          <p:nvPr/>
        </p:nvPicPr>
        <p:blipFill>
          <a:blip r:embed="rId17"/>
          <a:stretch/>
        </p:blipFill>
        <p:spPr>
          <a:xfrm>
            <a:off x="3051000" y="4867200"/>
            <a:ext cx="2424240" cy="584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3"/>
          <p:cNvSpPr/>
          <p:nvPr/>
        </p:nvSpPr>
        <p:spPr>
          <a:xfrm>
            <a:off x="3146400" y="5051520"/>
            <a:ext cx="1514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cc"/>
                </a:solidFill>
                <a:latin typeface="Arial"/>
              </a:rPr>
              <a:t>near fu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88480" y="0"/>
            <a:ext cx="863604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rehensive Data Systems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ovanni now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96880" y="1473120"/>
            <a:ext cx="90108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35 customized Giovanni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1000 of geo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~ 20 space-based instru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~ 50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A and Aeronet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ple visualization and statistical analysis functionalities including data inter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line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bsetted data downloads in multipl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840" y="247320"/>
            <a:ext cx="905508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98"/>
                </a:solidFill>
                <a:latin typeface="Arial"/>
              </a:rPr>
              <a:t>Multi-Sensor Air Quality Giovanni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52600" y="1263600"/>
            <a:ext cx="905004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Visualizations of Level-3 gridded satelli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first Giovanni instance with point source data (PM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2.5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ground-based aerosol observations from EPA) co-located with a variety of satellite 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ulti-sensor observations of aerosols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acilitate analysis of air pollutio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mporal and geographical selection of data products - Lat/lon maps with overlay option, time series, and Hov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ler plots for </a:t>
            </a:r>
            <a:r>
              <a:rPr b="0" i="1" lang="en-US" sz="2400" spc="-1" strike="noStrike">
                <a:solidFill>
                  <a:srgbClr val="fff298"/>
                </a:solidFill>
                <a:latin typeface="Trebuchet MS"/>
              </a:rPr>
              <a:t>customized visualization of air qualit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bined surface monitor and satellite data - AOD/ PM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2.5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scatter plots, correlation maps, time series and difference plots for </a:t>
            </a:r>
            <a:r>
              <a:rPr b="0" i="1" lang="en-US" sz="2400" spc="-1" strike="noStrike">
                <a:solidFill>
                  <a:srgbClr val="fff298"/>
                </a:solidFill>
                <a:latin typeface="Trebuchet MS"/>
              </a:rPr>
              <a:t>analysis and source attribution of pollutio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mporal animation plots of air quality data products for examining </a:t>
            </a:r>
            <a:r>
              <a:rPr b="0" i="1" lang="en-US" sz="2400" spc="-1" strike="noStrike">
                <a:solidFill>
                  <a:srgbClr val="fff298"/>
                </a:solidFill>
                <a:latin typeface="Trebuchet MS"/>
              </a:rPr>
              <a:t>long range transport of poll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"/>
          <p:cNvPicPr/>
          <p:nvPr/>
        </p:nvPicPr>
        <p:blipFill>
          <a:blip r:embed="rId1"/>
          <a:srcRect l="0" t="0" r="3827" b="0"/>
          <a:stretch/>
        </p:blipFill>
        <p:spPr>
          <a:xfrm>
            <a:off x="5292720" y="152280"/>
            <a:ext cx="4073400" cy="259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rcRect l="0" t="6888" r="0" b="0"/>
          <a:stretch/>
        </p:blipFill>
        <p:spPr>
          <a:xfrm>
            <a:off x="212760" y="152280"/>
            <a:ext cx="4827600" cy="3667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203040" y="3809880"/>
            <a:ext cx="4848480" cy="3143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966960" y="182520"/>
            <a:ext cx="3655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4"/>
          <a:srcRect l="0" t="0" r="4033" b="0"/>
          <a:stretch/>
        </p:blipFill>
        <p:spPr>
          <a:xfrm>
            <a:off x="5283360" y="2666880"/>
            <a:ext cx="4082760" cy="22669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1"/>
          <p:cNvSpPr/>
          <p:nvPr/>
        </p:nvSpPr>
        <p:spPr>
          <a:xfrm>
            <a:off x="5156280" y="5087880"/>
            <a:ext cx="44193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 Canada and the north-central US, MODIS and OMI show thick aerosols plumes. CALIOP overpass has a plume above the boundary lay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 the Southeastern US OMI doesn’t see aerosols located mostly in the boundary layer according to CALI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552600" y="6989760"/>
            <a:ext cx="2280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/6/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Straight Arrow Connector 11"/>
          <p:cNvCxnSpPr/>
          <p:nvPr/>
        </p:nvCxnSpPr>
        <p:spPr>
          <a:xfrm flipH="1" flipV="1">
            <a:off x="2279160" y="914040"/>
            <a:ext cx="4115520" cy="99144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36" name="Straight Arrow Connector 12"/>
          <p:cNvCxnSpPr/>
          <p:nvPr/>
        </p:nvCxnSpPr>
        <p:spPr>
          <a:xfrm flipH="1" flipV="1">
            <a:off x="3117240" y="2056680"/>
            <a:ext cx="4191480" cy="24390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53600" y="228600"/>
            <a:ext cx="828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85ff"/>
                </a:solidFill>
                <a:latin typeface="Calibri"/>
              </a:rPr>
              <a:t>Hemispheric Transport of Air pollution (HTAP) Giovanni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62000" y="2209680"/>
            <a:ext cx="392724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velop a web-based tool for Hemispheric Transport of Air pollution Model Inter-compar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otentially expand it for comparison with remote sensing data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unding: Friedl, Collaborator:  K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5" descr=""/>
          <p:cNvPicPr/>
          <p:nvPr/>
        </p:nvPicPr>
        <p:blipFill>
          <a:blip r:embed="rId1"/>
          <a:stretch/>
        </p:blipFill>
        <p:spPr>
          <a:xfrm>
            <a:off x="4518000" y="1828800"/>
            <a:ext cx="5137200" cy="478476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4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B7B4-8B02-43C2-A377-93B2E2246ED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BDE-0E8C-4DA9-928A-CE435B767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6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echnicalities: servers, protocols, interoperability, etc.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169920"/>
            <a:ext cx="8856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ovanni Data sources and their access protocol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36560" y="893880"/>
          <a:ext cx="8861400" cy="6040440"/>
        </p:xfrm>
        <a:graphic>
          <a:graphicData uri="http://schemas.openxmlformats.org/drawingml/2006/table">
            <a:tbl>
              <a:tblPr/>
              <a:tblGrid>
                <a:gridCol w="3330720"/>
                <a:gridCol w="1665360"/>
                <a:gridCol w="3865320"/>
              </a:tblGrid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Data 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360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GES DI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Local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AIRS, TRMM, OMI, MLS, HIRD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MODIS DA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MO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Ocean Color DA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SeaWiFS, MO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63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ASA Langley DA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OPeND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ALIPSO, MISR, TES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SI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AMSR-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40320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Snow, Ice, NC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Univ. of Mary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MODIS fire, ND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olorado State Un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loud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63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CIESIN Columbia Univers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opulation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J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Quick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EPA via DataF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M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Lille,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ara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ME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  <a:tr h="34596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Juelich, 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FTP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 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HT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63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DLR, 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GOME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8f6"/>
                    </a:solidFill>
                  </a:tcPr>
                </a:tc>
              </a:tr>
              <a:tr h="34524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Paris,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OPeND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rebuchet MS"/>
                          <a:ea typeface="ＭＳ Ｐゴシック"/>
                        </a:rPr>
                        <a:t>AERO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d"/>
                    </a:solidFill>
                  </a:tcPr>
                </a:tc>
              </a:tr>
            </a:tbl>
          </a:graphicData>
        </a:graphic>
      </p:graphicFrame>
      <p:sp>
        <p:nvSpPr>
          <p:cNvPr id="246" name="Date Placeholder 3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864B-FBA1-4AD9-A785-A123CBDD9F3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077C-FBC6-4F6B-9DB7-6A1F8815A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8480" y="152280"/>
            <a:ext cx="8636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Giovanni Data via Protocols &amp; Services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36200" y="963360"/>
            <a:ext cx="90838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onymous FT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vailable for all public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blic HTT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ternative to anonymous FTP, for most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n-Source Network for Data Access Protocol (OPeNDA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orts subsetting, ASCII downlo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orts netCDF conversion for HDF5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vailable for many datase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GC Web Coverage Serv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ically implies interpolation / reproj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tCDF/CF-1 prof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es not support vertical profi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ered for a few datase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GC Web Map Serv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ojected, mapped visual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ered for TRMM AIRS, AIRS Near-real-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762120" y="6942240"/>
            <a:ext cx="2117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70C1-7137-4A45-87D4-77FC83F6181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7280280" y="6942240"/>
            <a:ext cx="2119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1A82-ACC2-47A2-9B5E-C50BD6392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egory Leptoukh,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ptoukh</cp:lastModifiedBy>
  <dcterms:modified xsi:type="dcterms:W3CDTF">2010-07-21T12:48:12Z</dcterms:modified>
  <cp:revision>76</cp:revision>
  <dc:subject/>
  <dc:title>PowerPoint Presentation</dc:title>
</cp:coreProperties>
</file>